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CCED-1D00-4DDE-A1A7-634E519A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E8D2-6E7C-4C7E-A6B8-93F343CCA8D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EB4-FD38-4C03-ACED-B70835D9197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4C08-03A6-4426-BA43-CA1068C4955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CE3-85FC-40E4-AFD5-264267B7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B06-4F4F-4B0E-8B26-3FE7EB6C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960-BF4D-429F-9DAD-F407F17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F55-3BC5-46A3-AD58-50ABEC91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84C7-2697-45D6-BF4D-DFE5A9D9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7BF-9266-4D46-B23E-D6F707B3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235-614C-4CA8-A0E5-E332AABC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2A97-669F-4BE7-9638-C66F763E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3E74-111F-41BF-8D4F-D80120E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990-60EA-4D8A-9159-7F74C2CA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12F1-358B-42F3-8F4A-B6D1E64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556-E232-4FFD-A56F-2068DF4A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92F-003E-4B98-B19E-1157E52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7A9-0417-444E-9540-A3AFE58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1F7B-2EF4-455C-9A86-66145FDE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F616-B249-45D8-9869-DCDBFB9D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72FB-4AA8-4E72-A731-2BBF197F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BA7EA-57B7-49B9-9AA7-D5ED4BDB97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1D66D-FE57-4C18-B2B2-681B194E29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C4A5E-6BA0-4FDA-B0C9-157AF28AB4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F3391-7AB2-4F0A-91DD-E9897B7A8D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18340-07C4-46B8-9049-5268BEF64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A3A-B5B1-4855-A7C6-D820C03A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72DAA-5C29-4145-B59B-CA03D96828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833BE-5C68-429A-8AEC-CCEBDC27DC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81B8D-80FB-4038-BC6B-C434A6C1FA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C282F-8534-448E-9EB7-3E30F0BD21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E7D64-168F-4563-8CF3-7477D06A6B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9BAE1-AC69-4AB6-A1D3-88198602DC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BBC76-9F0F-4541-BE9F-A02DBAFDD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8C5-D706-40F6-939D-32052F92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130-6EB8-42A8-A711-6FB2829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800-D1AA-4BDF-AC9C-87C7138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75D-9F40-4C43-98B9-2DC264B4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2AD-BE11-48F4-929E-E202421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A96-1415-44C5-8DA4-A3CBCF4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1AF7-DBD2-42D7-AA4B-88B9BC789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248-4950-4A5B-835F-026219CBC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B56-C352-48BE-BBBE-AF6E12704FF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ПРОЦЕНА ФУНКЦИОНАЛНИХ И МОТОРИЧКИХ СПОСОБНОСТИ КОД ЛЕЗИЈА ЕКСТРАПИРАМИДАЛНОГ СИСТЕ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Picture 2" descr="C:\Users\User\Desktop\images.jpg"/>
          <p:cNvPicPr/>
          <p:nvPr/>
        </p:nvPicPr>
        <p:blipFill>
          <a:blip r:embed="rId1"/>
          <a:stretch/>
        </p:blipFill>
        <p:spPr>
          <a:xfrm>
            <a:off x="5791320" y="228600"/>
            <a:ext cx="3116160" cy="2075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212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8" name="Rectangle 4"/>
          <p:cNvSpPr/>
          <p:nvPr/>
        </p:nvSpPr>
        <p:spPr>
          <a:xfrm>
            <a:off x="990720" y="457200"/>
            <a:ext cx="4572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Универзитет у Крaгујевцу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ФАКУЛТЕТ МЕДИЦИНСКИХ НАУКА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4000"/>
            </a:b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рста акинезије приликом које пацијенти имају краткотрајне периоде када се осећају као „блокирани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дразумева епизодични поремећај хода који типично траје неколико секунди, обично 1 до 2с а ретко дуже од 10с, током којег оболели има доживљај да стопала не може да одвоји од подлоге, упркос менталном напору да превазиђе ову препреку и настави крет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3CCC-67ED-43AB-B21C-28324CE113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РИЗИНГ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549-7E73-4560-8285-F6BBA92594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685800" y="1752480"/>
            <a:ext cx="2438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Замор, стрес, когнтивно оптерећење, анксиозност и депресија доприносе појав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Јавља се у одмаклом стадијуму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постоје специфичне метод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јагноза се поставља на основу неуролошког преглед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мор у миру; обично више изражен на једној страни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игор (укоченост мишића руку, ногу и вра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адикинезија (успорење покр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C3F7-ED3E-40E8-A397-A56D17BD7F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odopa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hibitori enzima monoaminoksidaze tipa B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antiholinergici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  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иршко лече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ереотаксија,палидотомија и стимулација дубоког мозг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2EC-84CA-41F1-B95D-0B5AC701C9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 – најзначанија, треба је спроводити систематично и доживот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отерапија- ручна масажа- смањују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кинезитерпија – смањује ригор мишића, побољшава флесибилност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уз надзор терапеута због губитка аутоматских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воде 37-38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терапија- смањује риг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стимул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834-2A50-4177-A420-DF9646F553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8AE-439B-4AB8-A307-B57975865DB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ТРЕМО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емор у м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јавља у рукама, ногама, лицу или као тремор глав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унилатерал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се смањује при циљаном покре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885D-1D96-4F42-A6B1-EE14597E10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ишен тонус по типу риг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пор при пасивном покрету се описује као феномен “оловне шипке” и “феномен зупчастог точка” или Негроов феном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ује се покретима врата и екстремитет у целом обим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присут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 ли је једностран или обостр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53FE-398E-4884-A6DD-5A3DFA785F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кине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узрок инвалидитета код оболелих од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ипокинезија је смањена амплитуда покрета, док је брадикинезија спорост покрета, губитак ритма и сиромаштво спонтане мотор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рост вољних покрета одговорна је за тешкоће у свакодневном живо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матра се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кретање пацијента у кревету, устајање са столице, жвакање хране, облачење, умивање, ход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67A6-E9BF-4F7B-98BF-C541451FC8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ћење постуралних рефлек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к инавлидитета код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сматра се устајање пацијента, процена става и равнотеже (благо се гурн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роцењује се способност да се окрећу и мењају правац крет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27D1-751F-4528-89AD-6222B52AB7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прогресиван поремећај централног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ада у групу неуродегенеративних обољ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и симптоми болести је још 1817. описао енглески лекар др. Јамес Паркинсон, који ју назива дрхтајућа парали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поремећај покрета присутан у 1-2 % популације преко 65 год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шћи код мушкара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B47E-6EE6-463C-9386-52725F0B7D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израза лиц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лице особа са ПБ је безизразно (као маска), поглед укочен,мимика успорена (хипомимиа, амимиа), лице сјајно (“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facies oleosa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го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говор је монотон, слабије артикулисан и успоре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рукопи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к пише ситним словима, током писања једног реда, слова се смању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1346-2528-407F-A75D-F83A1600D0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772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х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ход код особа са ПБ је поремећен, због хипертоније, спори малим корацима, тежиште тела померено пут напред (склони су паду и повређивањ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D3C-8353-4245-B3A2-F8E86BA9DE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физиотерапеутског прегледа врши се постављање адекватног индивидуалног кинезитерапијског прогр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 врши се путем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ергова скала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Унификована скала за процену Паркинсонове боле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3. ПАС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kinson Activity Scale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ест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993D-D8B4-4E55-BA93-A0A6C5BDCD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66"/>
                </a:solidFill>
                <a:latin typeface="Tahoma"/>
              </a:rPr>
              <a:t>ПАС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arkinson Activity Scale</a:t>
            </a:r>
            <a:r>
              <a:rPr b="0" lang="sr-Latn-CS" sz="28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660066"/>
                </a:solidFill>
                <a:latin typeface="Tahoma"/>
              </a:rPr>
              <a:t>ТЕСТ- </a:t>
            </a:r>
            <a:r>
              <a:rPr b="0" lang="sr-CS" sz="2400" spc="-1" strike="noStrike">
                <a:solidFill>
                  <a:srgbClr val="660066"/>
                </a:solidFill>
                <a:latin typeface="Tahoma"/>
              </a:rPr>
              <a:t>Самооцењивање активности из свакодневног живот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09480" y="1143000"/>
          <a:ext cx="7772400" cy="5486400"/>
        </p:xfrm>
        <a:graphic>
          <a:graphicData uri="http://schemas.openxmlformats.org/drawingml/2006/table">
            <a:tbl>
              <a:tblPr/>
              <a:tblGrid>
                <a:gridCol w="3886200"/>
                <a:gridCol w="3048120"/>
                <a:gridCol w="83808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</a:t>
                      </a: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45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ност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45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</a:t>
                      </a: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458c"/>
                    </a:solidFill>
                  </a:tcPr>
                </a:tc>
              </a:tr>
              <a:tr h="63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Устајање из столице 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раво без помоћи руку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 затим уз помоћ руку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rowSpan="10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Нормално без тешкоћа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Без помоћи руку, мале тешкоће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Без руку, потребно висе поку</a:t>
                      </a:r>
                      <a:r>
                        <a:rPr b="0" lang="sr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аја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Са рукама, ви</a:t>
                      </a:r>
                      <a:r>
                        <a:rPr b="0" lang="sr-CS" sz="1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е поку</a:t>
                      </a:r>
                      <a:r>
                        <a:rPr b="0" lang="sr-CS" sz="1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аја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отребна помоћ друге особе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rowSpan="10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8c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</a:tr>
              <a:tr h="6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Седање у столицу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раво без помоћи руку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 затим уз помоћ руку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очињање хода 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осле устајања из столице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кретање за 360 степ.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у свакодневним ситуацијама</a:t>
                      </a: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Лежање на леђим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кретање на страну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Устајање из кревет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Лежање испод покривач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кретање на страну испод покривач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fd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8c0000"/>
                          </a:solidFill>
                          <a:latin typeface="Times New Roman"/>
                          <a:ea typeface="Times New Roman"/>
                        </a:rPr>
                        <a:t>Подизање покривача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9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250-ACF1-4F67-99BA-8CD7CF514D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Hen и Jarova СКАЛА ЗА ПРОЦЕНУ ТЕЖИНЕ ПАРКИНСОНОВЕ БОЛЕСТ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нема знакова боле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: унилатерална боле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1,5: унилатерална болест уз аксијалну захваће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: обострана болест , без поремећаја равноте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2,5: блага обострана болест, успева да поврати равнотежу током наглог повлачења или гурања у стојећем ставу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3: блага до умерена обострана болест , извесна постурална нестабилност, физички независта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4: тешка онеспособље, још увек хода или стоји без помоћ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ТАДИЈУМ 5: везан за покретна колица или кревет уколико му се не пома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75E3-C05B-4722-A68A-E861B6B4FF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моторних знакова врши се путем Унификоване скале за процену Паркинсонове болести (Unified Parkinson's Disease Rating Scale - UPDR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достатак ове скале је што се њоме не процењују адекватно немоторни симптоми П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жина болести врши се путем H&amp;Y ска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B27-283E-4FA5-8F04-C78D4A9374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ПДРС  (Unfield Parkinson disease Rating Scale) је скала која се састоји од 3 различите групе питања везаних за ментално стање, расположење, понашање, способност обављања свакодневних активности и моторичку активн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ан број поена на скали је 199, што предстаља и најтежи облик онеспособљености због бол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5E9-B487-4043-9635-144053769E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ала се користи за квантификовање симптома и знакова ПБ, за праћење прогресије болести  и ефекта леч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ала је композитна и састоји се од 6 делова. Свака ставка која се односи на симптом или знак оцењује се на скали од о до 4 (0 за нормално, 4 тешко оштећење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ви део односи се на процену когнитивних симптома, расположење, мотивацију и присуство/одсуство поремећаја мишљења, АДЖ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FB8-BFCC-40E0-BA3D-11EC8DEC98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уги део садржи 13 ставки које се односе на обављање АДЖ  као што су говор, саливација, гутање, рукопис, коришћење прибора за јело, облачење, хигијена, окретање и намештање постељине, падови, моторни блокови, ход, тремор и сензорне смет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ћи део односи се на моторне знаке ПБ и садржи 14 ставки којима се процењује говор, изражајност лица и говор, те посебно за сваки екстремитет тремор, брадикинезија, тежина болести, устајање из столице, постуралност, положај тела и х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0D0-ED7F-40A9-A966-D2AE384B70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етврти део евалуира компликације болести и нежељена дејства лекова у смислу постојања, дужине трајања и тежине дискинезија и моторних флуктуација, појаве анорексије, поремећаја спавања и ортостатске хипотенз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ти део је Х&amp;Y скала, док је шести део процена самосталности, односно зависности од туђе помоћи у обављању активности дневног живо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2DB-236A-4B06-AF86-ADD2D4779A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ова болест је најчешћи облик паркинсонизма (тремом, ригор, брадикинез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се назива и идиопатска Паркинсонова болес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уги облици паркинсонизма укључу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лтиплу системску атрофиј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гресивну супрануклеарну парализу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ркинсонизам изазван лек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539B-D41C-4580-A479-D0571434DA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Когнитивни статус, понашање и расположењ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(Питања 1-4) Оцени свако питање на основу разговора са болесником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. Интелектуални поремећај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. Стална заборавност са делиминим присећањем догађаја и без других пробле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Умерен губитак памћења са дезоријентацијом и умереним тешкоћама у решавању сложених проблема. Благ, али несумњив поремећај функционисања код куће са потребом за повременим подстицањем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Тежак губитак памћења са дезоријантацијом и, често, у простору. Озбиљне тешкоће у решавању пробле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Тежак губитак памћења са оријентацијом која је очувана само према личностима. Неспособан за промишљање и решавање проблема. Захтева много помоћи у личној нези. Уопште се не може остати са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49FB-9089-4B93-8AAF-307BAB6FA3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. Поремећај мишљ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услед деменције или интоксикације лекови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Живи снов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„Бенигне“ халуцинације са очуваним судом реал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Повремене до честе халуцинације са или сумануте идеје, без увида, које могу да ремете дневне актив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Сталне халуцинације, сумануте идеје или психоза. Није у стању да се стара о себ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9BA-5283-4EB1-AAA8-7A182E52C4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. Депрес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постој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Периоди туге или осећаја кривица који су дужи него нормално, али никада не трају данима или недељ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Стална депресија (једна недеља и преко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Стална депресија са вегетативним симптомима (несаница, анорексија, губитак телесне тежине, губитак интерес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Стална депресија са вегетативним симптомима и суицидалним идејама или намер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2CEA-C236-49CF-9D2A-1F3B588F5A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Мотивација/ иницијат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Мање самоуверен него обично; израженија пасивн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Губитак иницијативе или губитак интересовања у одабраним, нерутинским активност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Губитак иницијативе или губитак интересовања у свакодневним рутинским, активност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Повлачење, потпуни губитак мотив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9270-49E2-4DD5-A911-B5B7BA1CFC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II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 Свакодневне актив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одредити и у „он“ и у „оф“ стањ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Питања 5- 17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ако питање оцени двапут: једном за „он“ и једном за „оф“ период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вери се да болесник разуме шта з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ч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„он“ и „оф“ стање и да је у стању да их раздво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B79-6125-40BC-BA43-33EF5E7232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5. Гово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о захваћен. Нема тешкоћа да се разум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о захваћен. Понекад се мора тражити понављање исказ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шко захваћен. Веома често се мора тражити да понови исказ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Неразумљив највећи део вре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CA5C-C199-42DD-838A-3EF947A2BE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6. Салива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- Благ, али несумњив вишак пљувачке у устима; може имати ноћно цурење пљувач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- Умерени вишак пљувачке, може имати минимално цуре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- Изразит вишак пљувачке са њеним цурење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4- Изражено цурење пљувачке, које захтева сталну употребу марам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83D-E3B2-4FE0-A9C4-93AD2FA7B9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7. Гута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Ретко загрцав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Повремено загрцав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Захтева кашасту хран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Захтева назогастричну сонду или исхрану преко гастросто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4DB5-5E81-46CF-ABF3-59EF9DFC98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8. Рукопис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Лако успорен или мањих сл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о спор или смањених слова, све речи читљ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шко поремећен, све речи нису читљи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Већина речи није читљ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474-E0B2-4672-A4FE-CE8E594E8A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9. Сечење хране и коришћење прибор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Назначено споро и неспретно, али нема потребе за помо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Може да сече и користи највећи део намирница, мада неспретно и споро, са потребом за извесном помо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Храну мора да исече неко други, али још увек може споро самостално узима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Мора да се хра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6C5-1EE8-40A0-B98E-F8087212D35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мозгу постоје неуротрансмитери – допамин и ацетилхолин који, у међусобној равнотежи, преносе поруке између нервних ћелија и мишића. То нам омогућава да изводимо читав низ координисаних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оболелих од Паркинсонове болести та је равнотежа поремећена јер долази до пропадања допаминергичких неурона и када пропадне њих 80%, почиње се манифестовати боле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тра се да разлог за то може бити више различитих фактора као што су: генетска склоност, фактори околине и вирус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4B30-567C-4E8C-AF0A-020D73F225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0. Облаче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Унеколико успорен, али помоћ није потреб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Повремена помоћ у закопчавању, увлачењу руку у рука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Потребна значајна помоћ, али неке ствари још увек може да уради са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Беспомоћа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DFD-27CA-4650-A60F-DC85C42066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11. Хигиј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0- Нормал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- Назначено успорен, али помоћ није потреб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- Потребна је помоћ током туширања или купање; или веома успорен у одржавању хигије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- Захтева помоћ у умивању, прању зуба, чешљању, одласку у купатил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4- Потребна примена Фолијевог катетера или других механичких помаг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B69C-4C6D-43B4-BF22-14359968C4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2. Окретање у кревету и намештање постељи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Назначено успорен и неспретан, али помоћ није потреб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Може да се окрене сам или намести чаршаве, али са великим тешкоћ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Може да покуша, али не и да се окрене или намести чаршаве са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Беспомоћа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223-3046-4E22-93AB-B9EDEF5B34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3. Падови (невезани за феномен залеђивања или „фризинга“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Ретки падов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Повремени падови; мање него једном дне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Падови у просеку једном днев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Падови чешће него једном дне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29A3-0DFD-4B91-BED1-E85BE5F11B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4. Моторни блокови („фризинг“) током хо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Ретки моторни блокови током хода; може испољити оклевање при започињању ход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Повремени моторни блокови током ход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Чести моторни блокови. Повремено пада због моторних блок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Чести падови због моторних блок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167-A26C-47C9-AC0D-2913D75C10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5. Хо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е потешкоће. Могу да изостану покрети махања рукама или вуче ноге по подлоз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е лакоће, нема потребе за туђом помоћи или је она само мало потреб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жак поремећај хода, захтева помоћ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Није у стању да хода, чак ни уз помоћ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1977-BAB9-4A70-ACDA-9541886985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6. Тремо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Од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 и ретко присутан, не смета болесни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, смета болесни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жак, омета многе актив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Изражен, омета већину актив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ECC-4A48-4F20-BEB6-6FAE625A4A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7. Сензорне сметње повезане саа паркинсонизм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Повремено има утрнулост, мравињање или благе боло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Често има утрнулост, мравињање или благе болове; не узнемиравају болес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Честе болне сенза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Јаки болов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F14-8075-4AD6-B796-22F20422BC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II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Испитивање моторних функција (Питања 18-3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а свако питања на основу стања болесника током преглед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лико је то могуће, следеће прегледе и процену треба вршити у исто време дана и у истим интервалима од узимања лека. Процену треба вршити и у „оф“ и у „он“ фаз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6CE6-3E71-48FF-8B47-A80E490E0F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8. Говор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и губитак експресије, дикције и/или снаге гла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Монотон, сливен, али разумљив; умерено поремеће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Изразито поремећен, тежак за разумевањ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Неразумљи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1D1-8307-4BAF-A5ED-71AC400BCD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залне ганглије ч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ucleus caud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puta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globus palid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чествују у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тварању покрет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       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оли рефлекса на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варању аутоматиз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D2F-6A44-481B-8AD6-2C603216AC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9. Израз лиц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Минимална хипомимија, може да одговара нормалном лицу „играча покера“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Благо, али несумњиво смањење изражајности ли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Умерена хипомимија; део времена проводи полуотворених ус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Масколико или окамењено лице са тешким или потпуним губитком његове изражајности; усне раздвојене 0,6цм или виш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437-1148-40DF-9F7B-6D4495CF482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0. Тремор у миру (процена са врши за (а) лице, усне и браду (б) десну руку, (ц) леву руку, (д) десну ногу, (е) леву ног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Од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 и само ретко при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Мале амплитуде али сталан. Или, умерене амплитуде, али само повремено при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Умерне амплитуде и присутан највећи део врем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Изражене амплитуде и присутан највећи део вре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E004-4AEF-4673-B4AD-80D87E49D8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1. Акциони или постурални тремор руку (процена са врши за (а) десну руку, (б) леву рук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Одсут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; присутан током покр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е амплитуде, присутан током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Умерене амплитуде, присутан током покрета, као и одржавања положа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Изражене амплитуде, омета храње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AEB-E787-4509-9526-2B9441C7C6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2. Ригидитет (процена на основу пасивних покрета у великим зглобовима, са болесником који је опуштен и у седећем положају). Процена са врши за (а) врат, (б) десну руку, (ц) леву руку, (д) десну ногу, (е) леву ног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Одсутан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 или приметан само када се активира покретима друге руке или другим покретима уопшт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Благ до умерен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Изражен, али се пун обим покрета лако постиж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Тежак, а обим покрета се тешко постиж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C818-DF6F-4C21-855E-07849AF9E1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3. Брзо додиривање прстију („фингер тапс“; болесник брзо додирује палац и кажипрст с највећом могућом амплитудом, и то на свакој руци посебно. Процена са врши за (а) десну руку, (б) леву рук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о (≥15/5 с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а успореност и/или смањење амплитуде (11-14/5 с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Умерено оштећено. Несумњиво и рано замарање. Повремено може имати застоје у покретима (7-10/5 с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Тешко оштећено. Често оклевање да се покрет започне или чести застоји у започетим покретима (3-6/5 с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Једва да може да изврши задатак (0-2/5 с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D24-08B2-40E5-ACD6-99F86FA179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4. Покрети шака (болесник брзо отвара и затвара шаке са највећом могућом амплитудом, а процена на свакој руци посебно. Процена са врши за (а) десну руку, (б) леву рук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а успореност и/или смањење амплитуд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Умерено оштећено. Несумњиво и рано замарање. Повремено може имати застоје у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Тешко оштећено. Често оклевање да се покрет започне или чести застоји у започетим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Једва може да изврши задатак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2E7-4A48-43E2-8614-FC66801927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5. Брзи, наизменични покрети руку (покрети пронације- супинације руку, вертикално или хоризонтално, са највећом могућом амплитудом, симултано са обе руке. Процена са врши за (а) десну руку, (б) леву руку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а успореност и/или смањење амплитуд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Умерено оштећено. Несумњиво и рано замарање. Повремено може имати застоје у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Тешко оштећено. Често оклевање да се покрет започне или чести застоји у започетим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Једва да може да изврши задатак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1210-0F59-4303-9DFA-B5F56AE492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6. Покретљивост стопала (болесник брзо ритмички удара по подлози, одижући цело стопало. Амплитуда треба да буде око 7-8цм. Процена са врши за (а) десну ногу, (б) леву ног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Блага успореност и/или смањење амплитуд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Умерено оштећено. Несумњиво и рано замарање. Повремено може имати застоје у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Тешко оштећено. Често оклевање да се покрет започне или чести застоји у започетим покретим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Једва може да изврши задатак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5A54-2141-4B07-BDAC-C055ADBC67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7. Устајање из столице (болесник покушава да устане из двене или металне столице са усправним наслоном и са рукама прекрштеним на грудим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Споро, или захтева више од једног покушај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Одгурује се од наслона столиц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Има тенденцију пада уназад и покушава више пута, али устаје без помоћ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Не може да устане без туће помоћ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932-35C4-462B-8F4F-E09B1A444E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28. Положај те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0- Нормално успра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- Није у потпуности усправан, лако савијеног положаја трупа; може бити нормалан за старије особ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- Умерено савијеног положаја трупа, дефинитивно абнормалан; може се лако нагињати на једну стран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- Изразито савијеног положаја трупа са кифозом; може се умерено нагињати на једну страну. Упадљива флексија са екстремно абнормалним положајем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8CA-8615-4C75-BE29-EA6BE12A99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КСТРАПИРАМИДАЛНИ СИСТЕМ сложени део нервног система који учествује 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гулацији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вноте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нуса мишић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шићних рефлек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FB5-1EF8-4F9A-9155-96BF6B0660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9. Хо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ормал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Хода споро, кратким корацима, али без фестинације или пропулз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Ход отежан, али захтева мало или нимало помоћи; могу се у извесној мери јавити фестинација, кратки кораци или пропулз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жак поремећај хода, треба помоћ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Не може уопште да хода, чак ни уз помоћ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D036-A37C-491D-9374-F7A4D1F95E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0. Постурална стабилност (одговор на нагло померање уназад повлачењем рамена док болесник стоји у усправном поло жају са отвореним очима и лако размакнутих стопала. Болестник очекује померање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ормалн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Ретропулзија, али може да поврати стабилност без помоћ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Одсуство постуралног одговора; може да падне ако га испитивач не придрж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Веома нестабилан, равнотежу може да изгуби и спонтан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Није у стању да стоји без помоћ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5794-A4D9-4D83-9A13-F9940C41E3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1. Брадикинезија и хипокинезија тела (треба узети у обзи успореност, оклевање, смањене покрете махања руку, мало амплитуду и, уопште, сиромаштво моторике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- Није присутн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- Минимална успореност, са задовољавајућом вољном моториком; може бити нормална за неке особе. Могуће смањење амплитуд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- Благ степен успорености и сиромаштва моторике које је дефинитивно абнормално. Или, извесно смањење амплитуд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- Умерена спорост, сиромаштво моторике или мала амплитуда покрет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- Изражена спорост, сиромаштво моторике или мала амплитуда пок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4AC6-4C06-412C-B059-1533EC5B41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V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Компликације терапије (током протекле недеље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. НЕВОЉНИ ПОКРЕ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2. Трајање: у ком проценту Вашег будног стања су присутни невољни покрет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(Податак из анамнезе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1-25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26-50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51-75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76-100%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95A6-CC3C-4F19-AE6A-5546049D90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33. Онеспособљеност: у којој мери су неволни покрети онеспособљавајући? (Процена на основу анамнезе; може се допунити личним прегледо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0- Нису онеспособљавају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- Благо онеспособљавају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- Умерено онеспособљавају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- Тешко онеспособљавајућ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4- Потпуна онеспособљен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FDD4-9E61-45E2-B20E-6E04CB3F301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4. Болне дискинезије: у којој мери су невољни покрети (дискинезије) болн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 болних дискинез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Благ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Умере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Теш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Изражено бол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5. Постојање ране јутарње дискинез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DE14-A305-4C29-B473-225D2E152B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. КЛИНИЧКЕ ФЛУКТУ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6. Да ли су неки од „оф“ периода предвидљиви у односу на време када се лекови узимају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7. Да ли се неки од „оф“ периода непредвидљиви у односу на време када се лекови узимају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DFF6-68CB-4A63-9029-44B1E5C789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8. Да ли се неки од „оф“ периода развијају нагло, тј. унутар неколико секунд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9. У ком проценту будног стања је болесник у „оф“ фаз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ма „оф“ фаз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- 1-25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- 26-50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- 51-75% да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- 76-100%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2276-66FB-4F4D-930D-699599CDD9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Ц. ДРУГЕ КОМПЛИК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0. Да ли болесник има анорексију, мучнину, повраћањ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1- 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1. Да ли болесник има неки поремећај спавања: несаницу или хиперсомнију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1- 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2. Да ли болесник има симптоматску ортостатску хипотензију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0- Не 1- 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бележити вредности крвног притиска, пулса и телесне тежи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2C4-3BD9-47AF-90B6-7FF1D0BE9E5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Унификована скала за процену Паркинсонове болести 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UPDRS – Unified Parkinson’s Disease Rating Scale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ХЕН И ЈАРОВА СКАЛ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0 - Нема знакова болест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 - Унилатерална боле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1,5 - Унилатерална болест уз аксијану захваћеност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 - Обострана болест, без поремећаја равнотеж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,5 - Блага обострана болест, успева да поврати равнотежу током наглог повлачења или гурања у стојећем положају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3 - Блага до умерена обострана болест, извесна постурална нестабилност, физички независан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4 - Тешка онеспособљеност, још увек хода или стоји без помоћ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5 - Везан за покретна колица или кревет уколико му се не помаж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04D-5F87-4C7E-A9B2-596DD07845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5238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емор у мир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груб, велике амплитуде, асиметричан; појачава се са узбуђењем; губи се у сну и при вољним радњама (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ројање новц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ажење педала</a:t>
            </a:r>
            <a:r>
              <a:rPr b="0" lang="ru-RU" sz="2400" spc="-1" strike="noStrike">
                <a:solidFill>
                  <a:srgbClr val="40458c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радикинезија 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ешкоће са АДЖ; осиромашење аутоматских покрета (махање рукама у ходу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игор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јачан мишићни тонус или укоченост мишића; «оловна шипка«; Негроов феномен (зупчасти точа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9F9A-D317-4F9D-AEE3-39CBFE4676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180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Постурална нестабилност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нестабилност и заношење при ходу (губитак постуралних рефлекс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Рукопис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екстрапирамидна микрограф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Говор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монотон, сливен, тих </a:t>
            </a:r>
            <a:r>
              <a:rPr b="0" lang="sr-CS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 неразумљи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исфунција аутономног нервног систем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оштећена диг. перисталтика, дисфункција бешике, хиперсаливација, ортостатска хипотенз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Депресија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а или умерена депресија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50 %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180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Когнитивно оштећење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: благо когнитвно оштећење са оштећењем визуелно-просторне перцепције, пажње и концентрације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у ⅓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цијена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511-E6D8-404C-9F33-94F1F07126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ПОРЕМЕЋАЈ ХОДА</a:t>
            </a:r>
            <a:br>
              <a:rPr sz="3600"/>
            </a:b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ХИПОКИНЕТСКИ ХО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инуирани поремећај хода у ПБ где је смањена је брзина хода, као последица смањене амплиту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спорење корака настаје услед поремећаја централног генератора дужине кора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ба узети у обзир и повишење мишићног тонуса оболелог од ПБ који је флектиране постуре и укочен, као фактору који значајно доприноси постуралном поремећ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D38-2D23-42C1-8A3A-430B7DF62E9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0:01:58Z</dcterms:modified>
  <cp:revision>987</cp:revision>
  <dc:subject/>
  <dc:title>Rehabilitacija traumatoloških bolesnika</dc:title>
</cp:coreProperties>
</file>